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3.png" ContentType="image/png"/>
  <Override PartName="/ppt/media/image12.png" ContentType="image/png"/>
  <Override PartName="/ppt/media/image7.wmf" ContentType="image/x-wmf"/>
  <Override PartName="/ppt/media/image5.png" ContentType="image/png"/>
  <Override PartName="/ppt/media/image8.jpeg" ContentType="image/jpe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63720" y="741240"/>
            <a:ext cx="4959360" cy="371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7748CF-47F5-4E36-BCE9-EE81A420F8D6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8A2548-6F60-434A-924D-A11B11131388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7280" y="470340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67F916-302A-4E12-954F-0EBB141D6FFC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02040" y="9410760"/>
            <a:ext cx="298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63BF60-D630-4B93-878B-ED1BBB39F8A1}" type="slidenum">
              <a:rPr b="0" lang="en-GB" sz="13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596FC6-C2FE-4F4D-BFB2-AD70DC8CB972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C046AA19-4266-4A75-BC07-9D6C9C4234D9}" type="slidenum">
              <a:rPr b="0" lang="de-DE" sz="13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890FB7-BF90-4931-860D-1872E49460B2}" type="slidenum">
              <a:rPr b="0" lang="de-DE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13BB008C-2585-4563-8B0D-B5047B17C228}" type="slidenum">
              <a:rPr b="0" lang="en-GB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1c1e65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BD8E-5211-4BF7-B60E-3885925EB3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3FFAAE-36AC-408F-AA5F-539E37A56AFF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0FF6-9B96-4E13-8E23-A504AE33218E}" type="slidenum">
              <a:rPr b="0" lang="es-ES" sz="13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9003-56D1-4CED-82E1-A3523C275D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4BE1-7773-4023-AD47-4E7668628AE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3 Marcador de número de diapositiva"/>
          <p:cNvSpPr/>
          <p:nvPr/>
        </p:nvSpPr>
        <p:spPr>
          <a:xfrm>
            <a:off x="3897360" y="9408960"/>
            <a:ext cx="2984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6AA1-842C-40F7-81E5-F7DD40E466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900D4B-6A99-4FF3-92F9-E0AAFBB91FE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Marcador de número de diapositiva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13FF84-39D8-4866-A760-3FC7F697C443}" type="slidenum"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8B5C79-10E3-4AFB-AB66-BA27B301A87C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10995A-9B56-4002-BBFE-00C91930647A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6120" cy="3718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FA5EC2-513C-4836-BEB7-C4538426C997}" type="slidenum"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74A-232C-4041-86B9-27C507B8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8F5-5FC7-4260-B5A3-79160192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356-8DB4-4A69-AD40-B6811232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97B-6A79-4026-8D84-02A21E1F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CD8-88F7-4988-8A76-A5BAA04C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2AC-E070-4003-B678-2FC8E6E5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89E-9770-416E-B7BD-1BC52C90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1D5-B50E-4A10-AFA0-15B9D9D3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220-FB0E-47C6-AB45-EA50B776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30B-BCC4-41B9-9C35-F14769E5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47B-B22F-4E16-BE28-2CC21FD0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944-81DB-4722-AED9-69B3FE4B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Text Box 13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" name="Text Box 17"/>
          <p:cNvSpPr/>
          <p:nvPr/>
        </p:nvSpPr>
        <p:spPr>
          <a:xfrm rot="16200000">
            <a:off x="2088360" y="5404680"/>
            <a:ext cx="423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 Narrow"/>
              </a:rPr>
              <a:t>12 de septiembre de 2013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" name="Picture 20" descr="2011-EducacionCD"/>
          <p:cNvPicPr/>
          <p:nvPr/>
        </p:nvPicPr>
        <p:blipFill>
          <a:blip r:embed="rId2"/>
          <a:stretch/>
        </p:blipFill>
        <p:spPr>
          <a:xfrm>
            <a:off x="1187280" y="599760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1" descr="OAPEE con leyenda"/>
          <p:cNvPicPr/>
          <p:nvPr/>
        </p:nvPicPr>
        <p:blipFill>
          <a:blip r:embed="rId3"/>
          <a:stretch/>
        </p:blipFill>
        <p:spPr>
          <a:xfrm>
            <a:off x="5364000" y="604368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2" descr="EU_flag_LLP_ES"/>
          <p:cNvPicPr/>
          <p:nvPr/>
        </p:nvPicPr>
        <p:blipFill>
          <a:blip r:embed="rId4"/>
          <a:stretch/>
        </p:blipFill>
        <p:spPr>
          <a:xfrm>
            <a:off x="7308720" y="6043680"/>
            <a:ext cx="146232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3" descr="A enviar para actos"/>
          <p:cNvPicPr/>
          <p:nvPr/>
        </p:nvPicPr>
        <p:blipFill>
          <a:blip r:embed="rId5"/>
          <a:stretch/>
        </p:blipFill>
        <p:spPr>
          <a:xfrm>
            <a:off x="3492360" y="573552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bg_cedefopLogo"/>
          <p:cNvPicPr/>
          <p:nvPr/>
        </p:nvPicPr>
        <p:blipFill>
          <a:blip r:embed="rId6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2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 rot="16200000">
            <a:off x="2088360" y="5404680"/>
            <a:ext cx="4237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 Narrow"/>
              </a:rPr>
              <a:t>12 de septiembre de 2013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" name="Picture 20" descr="2011-EducacionCD"/>
          <p:cNvPicPr/>
          <p:nvPr/>
        </p:nvPicPr>
        <p:blipFill>
          <a:blip r:embed="rId2"/>
          <a:stretch/>
        </p:blipFill>
        <p:spPr>
          <a:xfrm>
            <a:off x="1187280" y="599760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OAPEE con leyenda"/>
          <p:cNvPicPr/>
          <p:nvPr/>
        </p:nvPicPr>
        <p:blipFill>
          <a:blip r:embed="rId3"/>
          <a:stretch/>
        </p:blipFill>
        <p:spPr>
          <a:xfrm>
            <a:off x="5364000" y="604368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EU_flag_LLP_ES"/>
          <p:cNvPicPr/>
          <p:nvPr/>
        </p:nvPicPr>
        <p:blipFill>
          <a:blip r:embed="rId4"/>
          <a:stretch/>
        </p:blipFill>
        <p:spPr>
          <a:xfrm>
            <a:off x="7308720" y="6043680"/>
            <a:ext cx="1462320" cy="41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A enviar para actos"/>
          <p:cNvPicPr/>
          <p:nvPr/>
        </p:nvPicPr>
        <p:blipFill>
          <a:blip r:embed="rId5"/>
          <a:stretch/>
        </p:blipFill>
        <p:spPr>
          <a:xfrm>
            <a:off x="3492360" y="573552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bg_cedefopLogo"/>
          <p:cNvPicPr/>
          <p:nvPr/>
        </p:nvPicPr>
        <p:blipFill>
          <a:blip r:embed="rId6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00ffff"/>
                </a:solidFill>
                <a:latin typeface="Arial"/>
              </a:defRPr>
            </a:lvl1pPr>
          </a:lstStyle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FC16-CABC-4138-AF22-FAAB10A40BF5}" type="slidenum">
              <a:rPr b="0" lang="es-ES" sz="2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cristina.figueroa@oapee.es" TargetMode="External"/><Relationship Id="rId2" Type="http://schemas.openxmlformats.org/officeDocument/2006/relationships/hyperlink" Target="mailto:anac.delcanto@oapee.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773360"/>
            <a:ext cx="8153280" cy="2519280"/>
          </a:xfrm>
          <a:prstGeom prst="rect">
            <a:avLst/>
          </a:prstGeom>
          <a:solidFill>
            <a:srgbClr val="3366ff"/>
          </a:solidFill>
          <a:ln w="9360">
            <a:solidFill>
              <a:srgbClr val="99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PROGRAMA DE APRENDIZAJE PERMANENTE</a:t>
            </a:r>
            <a:r>
              <a:rPr b="1" lang="en-GB" sz="4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sarrollo y perspectiva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ERASMUS +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5280" y="1447920"/>
            <a:ext cx="744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Objetivo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ayudar a Europa a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recuperarse de la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salir más fuerte a través de una estrategia coordinada y global para un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recimiento inteligente, integrador y sostenible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Educación y formación como máxima prior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Ningún objetivo de E2020 se alcanzará sin una important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inversión en capital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inco de las iniciativas emblemáticas de E2020 dependen de su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odernización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(Juventud en movimiento, Agendas de nuevas cualificaciones y empleos, Una agenda digital para Europa.Unión por la innovación y la Plataforma europea contra la pobrez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3 Rectángulo redondeado"/>
          <p:cNvSpPr/>
          <p:nvPr/>
        </p:nvSpPr>
        <p:spPr>
          <a:xfrm>
            <a:off x="1143000" y="914400"/>
            <a:ext cx="61214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Punto de partida: Europa 2020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5 Rectángulo redondeado"/>
          <p:cNvSpPr/>
          <p:nvPr/>
        </p:nvSpPr>
        <p:spPr>
          <a:xfrm>
            <a:off x="1066680" y="304920"/>
            <a:ext cx="4608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El futuro: </a:t>
            </a:r>
            <a:r>
              <a:rPr b="0" i="1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Erasmus +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7080" y="240840"/>
            <a:ext cx="877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99"/>
                </a:solidFill>
                <a:latin typeface="Tahoma"/>
              </a:rPr>
              <a:t>      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Tijdelijke aanduiding voor inhoud 2"/>
          <p:cNvSpPr/>
          <p:nvPr/>
        </p:nvSpPr>
        <p:spPr>
          <a:xfrm>
            <a:off x="900000" y="942840"/>
            <a:ext cx="7859880" cy="56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d1111"/>
                </a:solidFill>
                <a:latin typeface="Tahoma"/>
              </a:rPr>
              <a:t>Lograr los objetivos de Europa 2020 y los de Bolonia</a:t>
            </a:r>
            <a:endParaRPr b="0" lang="en-US" sz="22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56e9b"/>
                </a:solidFill>
                <a:latin typeface="Calibri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 menos  40% de la población entre 30-34 añ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con educación superior;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Tasas de abandono escolar por debajo del 10%;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Movilidad del 20%  de los estudiantes en 2020;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 menos 95% de niños y niñas de 4 años  en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educación infanti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Alumnado de 15 años con habilidade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insuficientes en lectura, matemáticas y ciencia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or debajo del 15%;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9933ff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Media de al menos 15 % de adultos (25-6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	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   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rticipando en aprendizaje a lo largo de la vid</a:t>
            </a:r>
            <a:r>
              <a:rPr b="1" lang="en-GB" sz="2000" spc="-1" strike="noStrike">
                <a:solidFill>
                  <a:srgbClr val="6666ff"/>
                </a:solidFill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627120" indent="-265320"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buClr>
                <a:srgbClr val="056e9b"/>
              </a:buClr>
              <a:buFont typeface="Wingdings" charset="2"/>
              <a:buChar char="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7367760" y="1628640"/>
            <a:ext cx="299880" cy="1173240"/>
          </a:xfrm>
          <a:custGeom>
            <a:avLst/>
            <a:gdLst>
              <a:gd name="textAreaLeft" fmla="*/ 0 w 299880"/>
              <a:gd name="textAreaRight" fmla="*/ 108360 w 299880"/>
              <a:gd name="textAreaTop" fmla="*/ 33840 h 1173240"/>
              <a:gd name="textAreaBottom" fmla="*/ 1139400 h 11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0"/>
                  <a:pt x="10800" y="1999"/>
                </a:cubicBezTo>
                <a:lnTo>
                  <a:pt x="10800" y="8801"/>
                </a:lnTo>
                <a:cubicBezTo>
                  <a:pt x="10800" y="9801"/>
                  <a:pt x="16200" y="10800"/>
                  <a:pt x="21600" y="10800"/>
                </a:cubicBezTo>
                <a:cubicBezTo>
                  <a:pt x="16200" y="10800"/>
                  <a:pt x="10800" y="11800"/>
                  <a:pt x="10800" y="12799"/>
                </a:cubicBezTo>
                <a:lnTo>
                  <a:pt x="10800" y="19601"/>
                </a:lnTo>
                <a:cubicBezTo>
                  <a:pt x="10800" y="20601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632720" y="21160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Europe 2020 / ET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7524720" y="3573360"/>
            <a:ext cx="546120" cy="2778120"/>
          </a:xfrm>
          <a:custGeom>
            <a:avLst/>
            <a:gdLst>
              <a:gd name="textAreaLeft" fmla="*/ 0 w 546120"/>
              <a:gd name="textAreaRight" fmla="*/ 197280 w 546120"/>
              <a:gd name="textAreaTop" fmla="*/ 118800 h 2778120"/>
              <a:gd name="textAreaBottom" fmla="*/ 2659320 h 277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6"/>
                  <a:pt x="10800" y="2952"/>
                </a:cubicBezTo>
                <a:lnTo>
                  <a:pt x="10800" y="7848"/>
                </a:lnTo>
                <a:cubicBezTo>
                  <a:pt x="10800" y="9324"/>
                  <a:pt x="16200" y="10800"/>
                  <a:pt x="21600" y="10800"/>
                </a:cubicBezTo>
                <a:cubicBezTo>
                  <a:pt x="16200" y="10800"/>
                  <a:pt x="10800" y="12276"/>
                  <a:pt x="10800" y="13752"/>
                </a:cubicBezTo>
                <a:lnTo>
                  <a:pt x="10800" y="18648"/>
                </a:lnTo>
                <a:cubicBezTo>
                  <a:pt x="10800" y="2012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7956720" y="4653000"/>
            <a:ext cx="11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ET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7632720" y="29592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ffff"/>
                </a:solidFill>
                <a:latin typeface="Arial"/>
              </a:rPr>
              <a:t>Bolonia 2020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7418520" y="2892600"/>
            <a:ext cx="215640" cy="360360"/>
          </a:xfrm>
          <a:custGeom>
            <a:avLst/>
            <a:gdLst>
              <a:gd name="textAreaLeft" fmla="*/ 0 w 215640"/>
              <a:gd name="textAreaRight" fmla="*/ 7776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3" name="4 Rectángulo redondeado"/>
          <p:cNvSpPr/>
          <p:nvPr/>
        </p:nvSpPr>
        <p:spPr>
          <a:xfrm>
            <a:off x="1447920" y="304920"/>
            <a:ext cx="6192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1066680" y="1447920"/>
            <a:ext cx="7521840" cy="42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movilidad y el aprendizaje en otros países (5 millones de personas en el período 2014-2020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cooperación institucional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Favorecer la adquisición de nuevas competencias y la mejora de la calidad de la educación y formació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rticipantes: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Estados miembro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íses candidato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Países de la EEA/EFTA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3" marL="12574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ＭＳ Ｐゴシック"/>
              </a:rPr>
              <a:t>Otros terceros paíse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800280" indent="-343080"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5" name="3 Rectángulo redondeado"/>
          <p:cNvSpPr/>
          <p:nvPr/>
        </p:nvSpPr>
        <p:spPr>
          <a:xfrm>
            <a:off x="1219320" y="533520"/>
            <a:ext cx="612144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"/>
                <a:ea typeface="Arial"/>
              </a:rPr>
              <a:t>Objetivos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3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F880-B31A-4250-986B-A3A9DFB2F59E}" type="slidenum">
              <a:rPr b="0" lang="de-DE" sz="1400" spc="-1" strike="noStrike">
                <a:solidFill>
                  <a:srgbClr val="00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143000" y="990720"/>
            <a:ext cx="775008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Tahoma"/>
              </a:rPr>
              <a:t>Foco en los resultados, el impacto y la simplific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Tahoma"/>
              </a:rPr>
              <a:t>3 tipos de acciones: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1199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Movilidad transnacional para el aprendizaj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1199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Cooperación institucional para la innovación y el intercambio de buenas práctica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901"/>
              </a:spcBef>
              <a:buClr>
                <a:srgbClr val="9933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Apoyo a las reformas de política educativ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2" marL="1428840" indent="-51444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Y uso extenso del concepto de e-Twinning </a:t>
            </a:r>
            <a:r>
              <a:rPr b="0" lang="nl-BE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a9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4 Rectángulo redondeado"/>
          <p:cNvSpPr/>
          <p:nvPr/>
        </p:nvSpPr>
        <p:spPr>
          <a:xfrm>
            <a:off x="1523880" y="533520"/>
            <a:ext cx="61930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3"/>
          <p:cNvSpPr/>
          <p:nvPr/>
        </p:nvSpPr>
        <p:spPr>
          <a:xfrm>
            <a:off x="6742080" y="648180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41A1-6F00-4650-9866-CA3AE55B0D63}" type="slidenum">
              <a:rPr b="0" lang="de-DE" sz="1400" spc="-1" strike="noStrike">
                <a:solidFill>
                  <a:srgbClr val="00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219320" y="1173240"/>
            <a:ext cx="731520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</a:rPr>
              <a:t>Valor añadido Europe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Fuerte énfasis en la demostración del valor añadido europeo y del impacto de la cooperación.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Sinergias y complementariedades con otros instrumentos de cooperación europea y otras fuentes de financi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901"/>
              </a:spcBef>
              <a:buClr>
                <a:srgbClr val="ed111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La movilidad es una prioridad del programa, en particular para la educación superior</a:t>
            </a:r>
            <a:r>
              <a:rPr b="0" lang="en-GB" sz="2400" spc="-1" strike="noStrike">
                <a:solidFill>
                  <a:srgbClr val="9933ff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lnSpc>
                <a:spcPct val="140000"/>
              </a:lnSpc>
              <a:spcBef>
                <a:spcPts val="601"/>
              </a:spcBef>
              <a:buClr>
                <a:srgbClr val="99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42920" y="620640"/>
            <a:ext cx="67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alibri"/>
              </a:rPr>
              <a:t>Principios clave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1066680" y="2057400"/>
            <a:ext cx="2865600" cy="3546000"/>
            <a:chOff x="1066680" y="2057400"/>
            <a:chExt cx="2865600" cy="3546000"/>
          </a:xfrm>
        </p:grpSpPr>
        <p:sp>
          <p:nvSpPr>
            <p:cNvPr id="145" name="Oval 3"/>
            <p:cNvSpPr/>
            <p:nvPr/>
          </p:nvSpPr>
          <p:spPr>
            <a:xfrm>
              <a:off x="2514600" y="3882240"/>
              <a:ext cx="1257480" cy="17211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0"/>
                  </a:solidFill>
                  <a:latin typeface="Calibri"/>
                </a:rPr>
                <a:t>Juventud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90"/>
                  </a:solidFill>
                  <a:latin typeface="Calibri"/>
                </a:rPr>
                <a:t>en Acción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6" name="Oval 4"/>
            <p:cNvSpPr/>
            <p:nvPr/>
          </p:nvSpPr>
          <p:spPr>
            <a:xfrm>
              <a:off x="2292480" y="2057400"/>
              <a:ext cx="1639800" cy="173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Programas 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Internacional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de Eduación superior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(Erasmus Mundus, 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Tempus,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Alfa, Edulink</a:t>
              </a:r>
              <a:r>
                <a:rPr b="0" lang="fr-BE" sz="1200" spc="-1" strike="noStrike">
                  <a:solidFill>
                    <a:srgbClr val="00ffff"/>
                  </a:solidFill>
                  <a:latin typeface="Calibri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7" name="Oval 5"/>
            <p:cNvSpPr/>
            <p:nvPr/>
          </p:nvSpPr>
          <p:spPr>
            <a:xfrm>
              <a:off x="1066680" y="2285280"/>
              <a:ext cx="1296000" cy="3312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Grundtvig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Erasmu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Leonardo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90"/>
                  </a:solidFill>
                  <a:latin typeface="Calibri"/>
                </a:rPr>
                <a:t>Comeniu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219680" y="3581280"/>
              <a:ext cx="75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" name="AutoShape 8"/>
          <p:cNvSpPr/>
          <p:nvPr/>
        </p:nvSpPr>
        <p:spPr>
          <a:xfrm>
            <a:off x="3708360" y="3193920"/>
            <a:ext cx="1263600" cy="378000"/>
          </a:xfrm>
          <a:custGeom>
            <a:avLst/>
            <a:gdLst>
              <a:gd name="textAreaLeft" fmla="*/ 197280 w 1263600"/>
              <a:gd name="textAreaRight" fmla="*/ 1105920 w 1263600"/>
              <a:gd name="textAreaTop" fmla="*/ 94320 h 378000"/>
              <a:gd name="textAreaBottom" fmla="*/ 283680 h 378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70196"/>
                </a:srgbClr>
              </a:gs>
              <a:gs pos="100000">
                <a:srgbClr val="ffff99"/>
              </a:gs>
            </a:gsLst>
            <a:lin ang="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266840" y="163440"/>
            <a:ext cx="51148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d1111"/>
                </a:solidFill>
                <a:latin typeface="Tahoma"/>
              </a:rPr>
              <a:t>Arquitectura del programa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" name="Group 13"/>
          <p:cNvGrpSpPr/>
          <p:nvPr/>
        </p:nvGrpSpPr>
        <p:grpSpPr>
          <a:xfrm>
            <a:off x="4707720" y="1459440"/>
            <a:ext cx="3949200" cy="4156920"/>
            <a:chOff x="4707720" y="1459440"/>
            <a:chExt cx="3949200" cy="4156920"/>
          </a:xfrm>
        </p:grpSpPr>
        <p:sp>
          <p:nvSpPr>
            <p:cNvPr id="152" name="Rectangle 14"/>
            <p:cNvSpPr/>
            <p:nvPr/>
          </p:nvSpPr>
          <p:spPr>
            <a:xfrm>
              <a:off x="5232600" y="2086200"/>
              <a:ext cx="2879640" cy="237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5486400" y="2362320"/>
              <a:ext cx="273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56e9b"/>
                  </a:solidFill>
                  <a:latin typeface="Calibri"/>
                </a:rPr>
                <a:t>Erasmus for all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6168960" y="3012120"/>
              <a:ext cx="504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7291440" y="3012120"/>
              <a:ext cx="324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5334120" y="3353400"/>
              <a:ext cx="838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1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Learning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Mobilit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Text Box 19"/>
            <p:cNvSpPr/>
            <p:nvPr/>
          </p:nvSpPr>
          <p:spPr>
            <a:xfrm>
              <a:off x="7421760" y="327096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3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Polic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suppor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6172200" y="3429360"/>
              <a:ext cx="1143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2.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400" spc="-1" strike="noStrike">
                  <a:solidFill>
                    <a:srgbClr val="056e9b"/>
                  </a:solidFill>
                  <a:latin typeface="Calibri"/>
                </a:rPr>
                <a:t>Institution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56e9b"/>
                  </a:solidFill>
                  <a:latin typeface="Calibri"/>
                </a:rPr>
                <a:t>co-operation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305320" y="301212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Text Box 22"/>
            <p:cNvSpPr/>
            <p:nvPr/>
          </p:nvSpPr>
          <p:spPr>
            <a:xfrm rot="19003800">
              <a:off x="4878720" y="4241520"/>
              <a:ext cx="72072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Text Box 23"/>
            <p:cNvSpPr/>
            <p:nvPr/>
          </p:nvSpPr>
          <p:spPr>
            <a:xfrm rot="19003800">
              <a:off x="7764840" y="1599480"/>
              <a:ext cx="72072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Text Box 24"/>
            <p:cNvSpPr/>
            <p:nvPr/>
          </p:nvSpPr>
          <p:spPr>
            <a:xfrm rot="5400000">
              <a:off x="7222320" y="3313440"/>
              <a:ext cx="21236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Text Box 25"/>
            <p:cNvSpPr/>
            <p:nvPr/>
          </p:nvSpPr>
          <p:spPr>
            <a:xfrm rot="5400000">
              <a:off x="4095000" y="2970360"/>
              <a:ext cx="212364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164" name="Text Box 26" descr=""/>
            <p:cNvPicPr/>
            <p:nvPr/>
          </p:nvPicPr>
          <p:blipFill>
            <a:blip r:embed="rId1"/>
            <a:stretch/>
          </p:blipFill>
          <p:spPr>
            <a:xfrm>
              <a:off x="5535720" y="4738320"/>
              <a:ext cx="2895480" cy="8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4 Rectángulo redondeado"/>
          <p:cNvSpPr/>
          <p:nvPr/>
        </p:nvSpPr>
        <p:spPr>
          <a:xfrm>
            <a:off x="1219320" y="838080"/>
            <a:ext cx="6192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alibri"/>
              </a:rPr>
              <a:t>Erasmus +: 2014-2020 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rcRect l="20518" t="20888" r="14207" b="20924"/>
          <a:stretch/>
        </p:blipFill>
        <p:spPr>
          <a:xfrm>
            <a:off x="1096920" y="762120"/>
            <a:ext cx="7742160" cy="4311360"/>
          </a:xfrm>
          <a:prstGeom prst="rect">
            <a:avLst/>
          </a:prstGeom>
          <a:ln w="0">
            <a:noFill/>
          </a:ln>
        </p:spPr>
      </p:pic>
      <p:sp>
        <p:nvSpPr>
          <p:cNvPr id="167" name="3 Rectángulo redondeado"/>
          <p:cNvSpPr/>
          <p:nvPr/>
        </p:nvSpPr>
        <p:spPr>
          <a:xfrm>
            <a:off x="1066680" y="304920"/>
            <a:ext cx="61930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Acción clave 1: 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Movilidad individu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10 Llamada rectangular redondeada"/>
          <p:cNvSpPr/>
          <p:nvPr/>
        </p:nvSpPr>
        <p:spPr>
          <a:xfrm rot="16200000">
            <a:off x="1467720" y="4552200"/>
            <a:ext cx="990720" cy="194472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Incluye la movilidad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l 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profesorado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ferenci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11 Llamada rectangular redondeada"/>
          <p:cNvSpPr/>
          <p:nvPr/>
        </p:nvSpPr>
        <p:spPr>
          <a:xfrm rot="16200000">
            <a:off x="7376760" y="4586040"/>
            <a:ext cx="1067040" cy="1800360"/>
          </a:xfrm>
          <a:prstGeom prst="wedgeRoundRectCallout">
            <a:avLst>
              <a:gd name="adj1" fmla="val 100935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Incluye voluntariad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</a:rPr>
              <a:t>Fomento Aprendizaje 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Arial"/>
              </a:rPr>
              <a:t>no  form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12 Llamada rectangular redondeada"/>
          <p:cNvSpPr/>
          <p:nvPr/>
        </p:nvSpPr>
        <p:spPr>
          <a:xfrm rot="16200000">
            <a:off x="3528720" y="4547880"/>
            <a:ext cx="990720" cy="180036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studiantes d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y de FP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13 Llamada rectangular redondeada"/>
          <p:cNvSpPr/>
          <p:nvPr/>
        </p:nvSpPr>
        <p:spPr>
          <a:xfrm rot="16200000">
            <a:off x="5552280" y="4658400"/>
            <a:ext cx="914400" cy="1656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on sistema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garantía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éstam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KA1: Movilidad del persona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99640" y="1628640"/>
            <a:ext cx="782964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Enfoque institu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Actividades de formación y desarrollo profesional del personal educa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Cursos estructurados o eventos de 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Estancias en centros de trabajo o empresas o instituciones de 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Job shadowing/ Periodo de observ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Periodo de enseñanza/ formación  en una institución asoc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Dur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2 días a 2 m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Calibri"/>
              </a:rPr>
              <a:t>Movilidad de larga duración (tras estudio de viabil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rcRect l="21204" t="18357" r="14330" b="22281"/>
          <a:stretch/>
        </p:blipFill>
        <p:spPr>
          <a:xfrm>
            <a:off x="1066680" y="990720"/>
            <a:ext cx="7772400" cy="39830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7956720" y="191772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4 Rectángulo redondeado"/>
          <p:cNvSpPr/>
          <p:nvPr/>
        </p:nvSpPr>
        <p:spPr>
          <a:xfrm>
            <a:off x="990720" y="304920"/>
            <a:ext cx="6192720" cy="7189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2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Cooperación para la innovación y las buenas prácticas (institucional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5 Llamada rectangular redondeada"/>
          <p:cNvSpPr/>
          <p:nvPr/>
        </p:nvSpPr>
        <p:spPr>
          <a:xfrm rot="16200000">
            <a:off x="1505880" y="4514040"/>
            <a:ext cx="1218960" cy="194472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sociaciones para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la cooperación ent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entros educativo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ferencias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6 Llamada rectangular redondeada"/>
          <p:cNvSpPr/>
          <p:nvPr/>
        </p:nvSpPr>
        <p:spPr>
          <a:xfrm rot="16200000">
            <a:off x="7590600" y="4372560"/>
            <a:ext cx="792000" cy="1800360"/>
          </a:xfrm>
          <a:prstGeom prst="wedgeRoundRectCallout">
            <a:avLst>
              <a:gd name="adj1" fmla="val 100935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erceros país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9" name="7 Llamada rectangular redondeada"/>
          <p:cNvSpPr/>
          <p:nvPr/>
        </p:nvSpPr>
        <p:spPr>
          <a:xfrm rot="16200000">
            <a:off x="3672720" y="4709520"/>
            <a:ext cx="1008000" cy="1800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sociacion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ducación superio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y de FP y empres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8 Llamada rectangular redondeada"/>
          <p:cNvSpPr/>
          <p:nvPr/>
        </p:nvSpPr>
        <p:spPr>
          <a:xfrm rot="16200000">
            <a:off x="5171040" y="4810320"/>
            <a:ext cx="1676520" cy="1656000"/>
          </a:xfrm>
          <a:prstGeom prst="wedgeRoundRectCallout">
            <a:avLst>
              <a:gd name="adj1" fmla="val 83421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ayor papel de l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lataformas TIC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eTwinning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s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xtiende a FP y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7956720" y="198900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4 Rectángulo redondeado"/>
          <p:cNvSpPr/>
          <p:nvPr/>
        </p:nvSpPr>
        <p:spPr>
          <a:xfrm>
            <a:off x="900000" y="189000"/>
            <a:ext cx="619308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2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Cooperación para la innovación y las buenas prácticas (institucional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2 Marcador de contenido"/>
          <p:cNvSpPr/>
          <p:nvPr/>
        </p:nvSpPr>
        <p:spPr>
          <a:xfrm>
            <a:off x="971640" y="249228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Promoverán la cooperación transnacional entre instituciones (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centros educativos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, organizaciones juveniles, voluntariado, asociaciones…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Promoverán actividade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ovilidad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y aumentarán el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impacto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 sistémico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  <a:ea typeface="Arial"/>
              </a:rPr>
              <a:t>Mejorarán </a:t>
            </a: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la cooperación con las empresas mediante proyectos transnacionales a gran escala (promoción de la innovación y empleabilidad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En Educación escolar</a:t>
            </a:r>
            <a:r>
              <a:rPr b="0" lang="es-ES_tradnl" sz="2000" spc="-1" strike="noStrike">
                <a:solidFill>
                  <a:srgbClr val="9933ff"/>
                </a:solidFill>
                <a:latin typeface="Arial"/>
                <a:ea typeface="Arial"/>
              </a:rPr>
              <a:t>: Asociaciones escolares, Asociaciones Regio y otras asociaciones en el ámbito educativo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5 Rectángulo redondeado"/>
          <p:cNvSpPr/>
          <p:nvPr/>
        </p:nvSpPr>
        <p:spPr>
          <a:xfrm>
            <a:off x="971640" y="1052640"/>
            <a:ext cx="3981240" cy="1081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sociacion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estratégic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2 CuadroTexto"/>
          <p:cNvSpPr/>
          <p:nvPr/>
        </p:nvSpPr>
        <p:spPr>
          <a:xfrm>
            <a:off x="1066680" y="2057400"/>
            <a:ext cx="784872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El programa de Aprendizaje Permanente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El PAP: Evaluación intermedia y resultado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Rounded MT Bold"/>
              </a:rPr>
              <a:t>Previsiones sobre el futuro programa 2014-20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0" name="4 Rectángulo redondeado"/>
          <p:cNvSpPr/>
          <p:nvPr/>
        </p:nvSpPr>
        <p:spPr>
          <a:xfrm>
            <a:off x="1116000" y="404640"/>
            <a:ext cx="75708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  <a:ea typeface="Arial"/>
              </a:rPr>
              <a:t>En esta sesión sobre el PAP y ERASMUS +: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01" name="Picture 13" descr="comenius_schema"/>
          <p:cNvPicPr/>
          <p:nvPr/>
        </p:nvPicPr>
        <p:blipFill>
          <a:blip r:embed="rId1"/>
          <a:srcRect l="33863" t="44331" r="0" b="0"/>
          <a:stretch/>
        </p:blipFill>
        <p:spPr>
          <a:xfrm>
            <a:off x="5029200" y="3809880"/>
            <a:ext cx="352728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33ff"/>
                </a:solidFill>
                <a:latin typeface="Calibri"/>
              </a:rPr>
              <a:t>KA2: Asociaciones estratégica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71280" y="1412640"/>
            <a:ext cx="782964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Cooperación sectorial y trans-se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Movilidad transn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Estancias del personal educa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Eventos de formación de corta durací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Calibri"/>
              </a:rPr>
              <a:t>Movilidad de alumnado de corta duración, combinando con la movilidad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Duración: 2-3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Calibri"/>
              </a:rPr>
              <a:t>Desarrollo institucional e internacionaliz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33ff"/>
                </a:solidFill>
                <a:latin typeface="Calibri"/>
              </a:rPr>
              <a:t>KA2: Asociaciones estratégicas escolare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6920" y="1785600"/>
            <a:ext cx="74725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Propuesta de la 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Coordinador  a cargo de las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AN del centro coordinador a cargo de la evaluación y de la contractu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Ventaj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incremento de la calidad  y la ambición de las propuest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simplificació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menos carga administrativ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no </a:t>
            </a:r>
            <a:r>
              <a:rPr b="0" i="1" lang="es-ES" sz="2000" spc="-1" strike="noStrike">
                <a:solidFill>
                  <a:srgbClr val="9933ff"/>
                </a:solidFill>
                <a:latin typeface="Calibri"/>
              </a:rPr>
              <a:t>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</a:rPr>
              <a:t>Inconvenientes: la mayoría de los centros no tienen capacidad de gestión económica de esta enverg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7956720" y="198900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4 Rectángulo redondeado"/>
          <p:cNvSpPr/>
          <p:nvPr/>
        </p:nvSpPr>
        <p:spPr>
          <a:xfrm>
            <a:off x="1128600" y="130320"/>
            <a:ext cx="5688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cción clave 3: </a:t>
            </a: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Apoyo a la reforma de las polític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rcRect l="20905" t="18472" r="14474" b="25276"/>
          <a:stretch/>
        </p:blipFill>
        <p:spPr>
          <a:xfrm>
            <a:off x="1066680" y="692280"/>
            <a:ext cx="7561440" cy="3952800"/>
          </a:xfrm>
          <a:prstGeom prst="rect">
            <a:avLst/>
          </a:prstGeom>
          <a:ln w="0">
            <a:noFill/>
          </a:ln>
        </p:spPr>
      </p:pic>
      <p:sp>
        <p:nvSpPr>
          <p:cNvPr id="192" name="6 Llamada rectangular redondeada"/>
          <p:cNvSpPr/>
          <p:nvPr/>
        </p:nvSpPr>
        <p:spPr>
          <a:xfrm rot="16200000">
            <a:off x="1858320" y="4161240"/>
            <a:ext cx="990360" cy="2421000"/>
          </a:xfrm>
          <a:prstGeom prst="wedgeRoundRectCallout">
            <a:avLst>
              <a:gd name="adj1" fmla="val 100018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sarrollo de indicadore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las polític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studios comparativo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7 Llamada rectangular redondeada"/>
          <p:cNvSpPr/>
          <p:nvPr/>
        </p:nvSpPr>
        <p:spPr>
          <a:xfrm rot="16200000">
            <a:off x="7184160" y="3907440"/>
            <a:ext cx="1218960" cy="2700360"/>
          </a:xfrm>
          <a:prstGeom prst="wedgeRoundRectCallout">
            <a:avLst>
              <a:gd name="adj1" fmla="val 90194"/>
              <a:gd name="adj2" fmla="val -2129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poyo a las agendas política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ara prioridades temática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ceso Bolonia, Escuelas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ara el siglo XXI, .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10 Llamada rectangular redondeada"/>
          <p:cNvSpPr/>
          <p:nvPr/>
        </p:nvSpPr>
        <p:spPr>
          <a:xfrm rot="16200000">
            <a:off x="4345560" y="4111920"/>
            <a:ext cx="1295640" cy="2519280"/>
          </a:xfrm>
          <a:prstGeom prst="wedgeRoundRectCallout">
            <a:avLst>
              <a:gd name="adj1" fmla="val 92824"/>
              <a:gd name="adj2" fmla="val -21861"/>
              <a:gd name="adj3" fmla="val 16667"/>
            </a:avLst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Fomento de la aplicación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nacional de herramientas d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ransparencia de la UE: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ECTS, ECVET, .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116000" y="476280"/>
          <a:ext cx="7570800" cy="5473800"/>
        </p:xfrm>
        <a:graphic>
          <a:graphicData uri="http://schemas.openxmlformats.org/drawingml/2006/table">
            <a:tbl>
              <a:tblPr/>
              <a:tblGrid>
                <a:gridCol w="3673440"/>
                <a:gridCol w="38973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Comeniu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2 (IST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Mobility of Learners and Staff (M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4 (ASSITAN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5 (HOST SCHOO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1 High Education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¿?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6 (MULTILATERAL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7 (BILATERAL)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:  STRATEGIG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CHOOL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13 ( COMENIUS REGIO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STRATEGIC PARTNERSHIPS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14 (INDIVIDUAL PUPIL MOBILITY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(STRATEGIC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 KA 1 (LEARNERS MOBILITY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 09 (PREPARATORY VISI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187280" y="471600"/>
          <a:ext cx="7056720" cy="5621400"/>
        </p:xfrm>
        <a:graphic>
          <a:graphicData uri="http://schemas.openxmlformats.org/drawingml/2006/table">
            <a:tbl>
              <a:tblPr/>
              <a:tblGrid>
                <a:gridCol w="3603960"/>
                <a:gridCol w="3452760"/>
              </a:tblGrid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GRUNDTVIG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3 (IST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Mobility of Learners and   Staff (ML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1 (ASSITAN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1 High Education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¿?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6 (LEARNER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:  STRATEGIG PARTNERSHIP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3 ( WORKSHO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4 (VOLUNTEERING PROJECTS)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 2 (STRATEGIC      PARTNERSHIP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07 (PREPARATORY VISIT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?????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GRU 12 (VISITS AND EXCHANGE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KA1 STAFF MOBILIT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332000" y="1484280"/>
          <a:ext cx="6923160" cy="2592360"/>
        </p:xfrm>
        <a:graphic>
          <a:graphicData uri="http://schemas.openxmlformats.org/drawingml/2006/table">
            <a:tbl>
              <a:tblPr/>
              <a:tblGrid>
                <a:gridCol w="3535200"/>
                <a:gridCol w="33879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PAP GRUNDTVIG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Erasmus +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VISITAS DE ESTUDIO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ATÁLOGO DE CURSOS Y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ACTIVIDADES DE FORMACIÓN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COMENIUS Y GRUNDTVIG</a:t>
                      </a:r>
                      <a:r>
                        <a:rPr b="0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DESAPARECE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826920" y="1773360"/>
            <a:ext cx="813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42920" y="1341360"/>
          <a:ext cx="7921800" cy="4297320"/>
        </p:xfrm>
        <a:graphic>
          <a:graphicData uri="http://schemas.openxmlformats.org/drawingml/2006/table">
            <a:tbl>
              <a:tblPr/>
              <a:tblGrid>
                <a:gridCol w="3745080"/>
                <a:gridCol w="417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Presupuesto total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7.299 millones € (??)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Oportunidades totales de movilidad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 millones de persona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ducación Superior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,2 millones de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ovilidad del personal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 millón de profesores, formadores, etc.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Formación Profesional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35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Programas juveniles (voluntariado / intercambio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40.000 jóven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Garantía de préstamos (Máster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30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studiantes internacional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35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yudas para programas conjunto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4.000 estudiant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sociaciones estratégica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ás de 20.000 (115.000 instituciones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lianzas para el conocimiento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00 (2.000 empresas e Inst. de E.Sup.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lianzas - competencias sectoriales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00 (2.000 empresas y proveedores FP)</a:t>
                      </a:r>
                      <a:endParaRPr b="0" lang="en-US" sz="16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4 Rectángulo redondeado"/>
          <p:cNvSpPr/>
          <p:nvPr/>
        </p:nvSpPr>
        <p:spPr>
          <a:xfrm>
            <a:off x="900000" y="189000"/>
            <a:ext cx="31672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ff"/>
                </a:solidFill>
                <a:latin typeface="Arial"/>
                <a:ea typeface="Arial"/>
              </a:rPr>
              <a:t>Previsiones de Erasmus +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Dudas y reto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280" y="1483920"/>
            <a:ext cx="7900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Garantizar que no sólo los centros experimentados acceden: incorporación de nuevos centros 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European Development Plan: Debe contribuir a la mejora, internacionalización del centro/i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Cómo elaborarlo, cómo integrarlo en proyecto institucional, en la vida ordinaria del centro/institución, cómo ser convin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Personal no ligado a una institución, cómo asegurar que no quedan ex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Calibri"/>
              </a:rPr>
              <a:t>Estrategia de futuro conjunt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71280" y="1628280"/>
            <a:ext cx="7829640" cy="46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Objetivo: Prepararnos para estar en buena posición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Difusión, promoción, formación, asesoramiento, seguimiento,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Destinatarios: las instituciones: centros, asociaciones, organizaciones locales, regionales, servicios educativos de las CCAA, agentes sociales y otros agentes educativo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Formación y promoción en cas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Cooperación entre AN yAdministraciones educ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826320" cy="11430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33ff"/>
                </a:solidFill>
                <a:latin typeface="Arial Narrow"/>
              </a:rPr>
              <a:t>Direcciones útil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812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www.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studyvisits.cedefop.europa.eu/</a:t>
            </a: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www.modeproject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http://ec.europa.eu/education/programmes/programmes_e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www.eurydice.org/</a:t>
            </a: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Oapee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Gustavo Fernández Balbuena,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 Narrow"/>
              </a:rPr>
              <a:t>28002 Mad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Cristina Figueroa 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 Narrow"/>
                <a:hlinkClick r:id="rId1"/>
              </a:rPr>
              <a:t>cristina.figueroa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 Narrow"/>
              </a:rPr>
              <a:t>Ana Carmen del Canto </a:t>
            </a:r>
            <a:r>
              <a:rPr b="0" lang="es-ES" sz="2000" spc="-1" strike="noStrike" u="sng">
                <a:solidFill>
                  <a:srgbClr val="ff0000"/>
                </a:solidFill>
                <a:uFillTx/>
                <a:latin typeface="Arial Narrow"/>
                <a:hlinkClick r:id="rId2"/>
              </a:rPr>
              <a:t>anac.delcanto@oapee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Rectángulo redondeado"/>
          <p:cNvSpPr/>
          <p:nvPr/>
        </p:nvSpPr>
        <p:spPr>
          <a:xfrm>
            <a:off x="1143000" y="2286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Context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6 Rectángulo redondeado"/>
          <p:cNvSpPr/>
          <p:nvPr/>
        </p:nvSpPr>
        <p:spPr>
          <a:xfrm>
            <a:off x="1066680" y="990720"/>
            <a:ext cx="7704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PAP </a:t>
            </a:r>
            <a:r>
              <a:rPr b="0" lang="es-ES_tradnl" sz="2400" spc="-1" strike="noStrike">
                <a:solidFill>
                  <a:srgbClr val="9933ff"/>
                </a:solidFill>
                <a:latin typeface="Arial"/>
                <a:ea typeface="Arial"/>
              </a:rPr>
              <a:t>(2007-2013)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42920" y="1676520"/>
          <a:ext cx="7872480" cy="491328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7040"/>
                <a:gridCol w="196848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ogramas Sectoriales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menius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escola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3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rasmus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superior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Leonardo da Vinci</a:t>
                      </a:r>
                      <a:r>
                        <a:rPr b="0" lang="es-E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Form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Profesional</a:t>
                      </a:r>
                      <a:r>
                        <a:rPr b="0" lang="es-E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Grundtvig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Educ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de personas adultas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15663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grama Transversal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sitas de estudio</a:t>
                      </a:r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4 actividades clave: Desarrollo de pol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í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ticas; Aprendizaje de idiomas; TIC; Difus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y valoriza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</a:t>
                      </a:r>
                      <a:r>
                        <a:rPr b="0" lang="es-ES" sz="24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7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grama Jean Monnet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3 actividades clave 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–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Acci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n Jean Monnet; Instituciones europeas; Asociaciones europeas</a:t>
                      </a:r>
                      <a:r>
                        <a:rPr b="0" lang="es-E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" name="AutoShape 20"/>
          <p:cNvSpPr/>
          <p:nvPr/>
        </p:nvSpPr>
        <p:spPr>
          <a:xfrm>
            <a:off x="3395520" y="3843360"/>
            <a:ext cx="3048120" cy="880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258560" y="2133720"/>
            <a:ext cx="7427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33ff"/>
                </a:solidFill>
                <a:latin typeface="Arial Narrow"/>
              </a:rPr>
              <a:t>¡Muchas gracias por su atenció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4 Rectángulo redondeado"/>
          <p:cNvSpPr/>
          <p:nvPr/>
        </p:nvSpPr>
        <p:spPr>
          <a:xfrm>
            <a:off x="1143000" y="260280"/>
            <a:ext cx="242100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1. El </a:t>
            </a:r>
            <a:r>
              <a:rPr b="0" lang="es-ES" sz="2400" spc="-1" strike="noStrike">
                <a:solidFill>
                  <a:srgbClr val="c753c3"/>
                </a:solidFill>
                <a:latin typeface="Arial"/>
                <a:ea typeface="Arial"/>
              </a:rPr>
              <a:t>Context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7" name="6 Rectángulo redondeado"/>
          <p:cNvSpPr/>
          <p:nvPr/>
        </p:nvSpPr>
        <p:spPr>
          <a:xfrm>
            <a:off x="1066680" y="990720"/>
            <a:ext cx="7704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"/>
              </a:rPr>
              <a:t>El Programa de Aprendizaje Permanente (PAP)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079640" y="1916280"/>
            <a:ext cx="75247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El PAP pretend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33ff"/>
                </a:solidFill>
                <a:latin typeface="Calibri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Contribuir al desarrollo de la </a:t>
            </a:r>
            <a:r>
              <a:rPr b="0" lang="es-ES_tradnl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Unión Europea como sociedad del conocimiento avanzado</a:t>
            </a:r>
            <a:r>
              <a:rPr b="0" lang="es-ES_tradnl" sz="2000" spc="-1" strike="noStrike">
                <a:solidFill>
                  <a:srgbClr val="9933ff"/>
                </a:solidFill>
                <a:latin typeface="Calibri"/>
                <a:ea typeface="Arial"/>
              </a:rPr>
              <a:t>, con un desarrollo económico sostenible, más y mejores trabajos y una mayor cohesión social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9933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Favorecer el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intercambio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, la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cooperación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y la </a:t>
            </a:r>
            <a:r>
              <a:rPr b="0" lang="es-ES" sz="2000" spc="-1" strike="noStrike" u="sng">
                <a:solidFill>
                  <a:srgbClr val="9933ff"/>
                </a:solidFill>
                <a:uFillTx/>
                <a:latin typeface="Calibri"/>
                <a:ea typeface="Arial"/>
              </a:rPr>
              <a:t>movilidad</a:t>
            </a:r>
            <a:r>
              <a:rPr b="0" lang="es-ES" sz="2000" spc="-1" strike="noStrike">
                <a:solidFill>
                  <a:srgbClr val="9933ff"/>
                </a:solidFill>
                <a:latin typeface="Calibri"/>
                <a:ea typeface="Arial"/>
              </a:rPr>
              <a:t> entre centros y sistemas educativos y de formación dentro de los países europeo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bd19890_"/>
          <p:cNvPicPr/>
          <p:nvPr/>
        </p:nvPicPr>
        <p:blipFill>
          <a:blip r:embed="rId1"/>
          <a:stretch/>
        </p:blipFill>
        <p:spPr>
          <a:xfrm>
            <a:off x="914400" y="3200400"/>
            <a:ext cx="3362400" cy="297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j0400008"/>
          <p:cNvPicPr/>
          <p:nvPr/>
        </p:nvPicPr>
        <p:blipFill>
          <a:blip r:embed="rId2"/>
          <a:stretch/>
        </p:blipFill>
        <p:spPr>
          <a:xfrm>
            <a:off x="5029200" y="91440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j0174351"/>
          <p:cNvPicPr/>
          <p:nvPr/>
        </p:nvPicPr>
        <p:blipFill>
          <a:blip r:embed="rId3"/>
          <a:stretch/>
        </p:blipFill>
        <p:spPr>
          <a:xfrm>
            <a:off x="4952880" y="3581280"/>
            <a:ext cx="3416400" cy="2927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</p:pic>
      <p:pic>
        <p:nvPicPr>
          <p:cNvPr id="112" name="Picture 6" descr="j0397949"/>
          <p:cNvPicPr/>
          <p:nvPr/>
        </p:nvPicPr>
        <p:blipFill>
          <a:blip r:embed="rId4"/>
          <a:stretch/>
        </p:blipFill>
        <p:spPr>
          <a:xfrm>
            <a:off x="1600200" y="0"/>
            <a:ext cx="2558880" cy="25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</p:pic>
      <p:sp>
        <p:nvSpPr>
          <p:cNvPr id="113" name="CuadroTexto 5"/>
          <p:cNvSpPr/>
          <p:nvPr/>
        </p:nvSpPr>
        <p:spPr>
          <a:xfrm>
            <a:off x="6413040" y="27432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Arial"/>
              </a:rPr>
              <a:t>Movilidad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4" name="CuadroTexto 6"/>
          <p:cNvSpPr/>
          <p:nvPr/>
        </p:nvSpPr>
        <p:spPr>
          <a:xfrm>
            <a:off x="1552680" y="283680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ff"/>
                </a:solidFill>
                <a:latin typeface="Arial"/>
              </a:rPr>
              <a:t>Cooperación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83760" y="2205000"/>
            <a:ext cx="7859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3 000 millones de euros 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en tres años para actividades transnacionales de educación y formación destinadas a promover la modernización de los sistemas educativos en treinta y un países europe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900 000 periodos de movilidad 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</a:rPr>
              <a:t>de aprendizaje a ciudadanos europ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má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720 000 estudiantes 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y casi 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180 000 profesores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</a:rPr>
              <a:t>, formadores y otro personal.</a:t>
            </a: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33ff"/>
                </a:solidFill>
                <a:latin typeface="Arial"/>
              </a:rPr>
              <a:t>Más de </a:t>
            </a: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50 000 organizaciones europeas</a:t>
            </a:r>
            <a:r>
              <a:rPr b="1" lang="es-ES" sz="24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1079640" y="1109520"/>
            <a:ext cx="8064360" cy="979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ff"/>
                </a:solidFill>
                <a:latin typeface="Calibri"/>
              </a:rPr>
              <a:t>Evaluación intermedia del PAP: algunas cifra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73200" y="2492280"/>
            <a:ext cx="7570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Un catalizador de cambios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Un éxito para las personas y las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Gran demanda de asociaciones, proyectos y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Apoyo al desarrollo de las iniciativas a nivel de la UE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Modernización de las instituciones de educación y 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Fomento de las competencias individ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Calibri"/>
              </a:rPr>
              <a:t>Mejor marco de gestión 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4 Rectángulo redondeado"/>
          <p:cNvSpPr/>
          <p:nvPr/>
        </p:nvSpPr>
        <p:spPr>
          <a:xfrm>
            <a:off x="1079640" y="1447920"/>
            <a:ext cx="8064360" cy="89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ff"/>
                </a:solidFill>
                <a:latin typeface="Calibri"/>
              </a:rPr>
              <a:t>Evaluación intermedia del PAP: conclusione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116000" y="1916280"/>
            <a:ext cx="802800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   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nnovación: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-Cambio en las institucion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	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-Formación del profesorado / personal formador 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rtalecimiento del Aprendizaje a lo largo de la vida en la Unión Europe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nfluencia en la política educativa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ZoneTexte 60"/>
          <p:cNvSpPr/>
          <p:nvPr/>
        </p:nvSpPr>
        <p:spPr>
          <a:xfrm>
            <a:off x="1042920" y="762120"/>
            <a:ext cx="81010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aa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ff"/>
                </a:solidFill>
                <a:latin typeface="Verdana"/>
                <a:ea typeface="Arial"/>
              </a:rPr>
              <a:t> </a:t>
            </a: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¿Qué ha supuesto el Programa de Aprendizaje Permanente?</a:t>
            </a:r>
            <a:r>
              <a:rPr b="0" lang="fr-BE" sz="2400" spc="-1" strike="noStrike">
                <a:solidFill>
                  <a:srgbClr val="9933ff"/>
                </a:solidFill>
                <a:latin typeface="Verdana"/>
                <a:ea typeface="Arial"/>
              </a:rPr>
              <a:t>- </a:t>
            </a:r>
            <a:r>
              <a:rPr b="0" lang="fr-BE" sz="2000" spc="-1" strike="noStrike">
                <a:solidFill>
                  <a:srgbClr val="9933ff"/>
                </a:solidFill>
                <a:latin typeface="Verdana"/>
                <a:ea typeface="Arial"/>
              </a:rPr>
              <a:t>2000-2013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3280" y="990720"/>
            <a:ext cx="7344000" cy="61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8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Y también:</a:t>
            </a:r>
            <a:endParaRPr b="0" lang="en-US" sz="28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Primera experiencia de Europa para muchas instituciones y su personal y alumnado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Dimensión europea en las instituciones de educación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menta el desarrollo de redes para el intercambio de experiencias y buenas práctica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Mejora la calidad a través de la cooperación a nivel de bas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Impulsa la innovación y la creatividad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 Unicode MS"/>
                <a:ea typeface="Arial Unicode MS"/>
              </a:rPr>
              <a:t>Fomenta la cohesión soc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 Unicode MS"/>
              </a:rPr>
              <a:t>……</a:t>
            </a:r>
            <a:r>
              <a:rPr b="0" lang="es-ES" sz="2400" spc="-1" strike="noStrike">
                <a:solidFill>
                  <a:srgbClr val="9933ff"/>
                </a:solidFill>
                <a:latin typeface="Arial"/>
                <a:ea typeface="Arial Unicode MS"/>
              </a:rPr>
              <a:t>..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6:05:51Z</dcterms:created>
  <dc:creator>cecilia.baquero</dc:creator>
  <dc:description/>
  <dc:language>en-US</dc:language>
  <cp:lastModifiedBy>oapee</cp:lastModifiedBy>
  <dcterms:modified xsi:type="dcterms:W3CDTF">2013-09-17T07:32:16Z</dcterms:modified>
  <cp:revision>735</cp:revision>
  <dc:subject/>
  <dc:title>Presentación de PowerPoint</dc:title>
</cp:coreProperties>
</file>